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C7D8-419C-43EA-A0C1-185480B25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F965-49EC-46C5-A0B0-1C393462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F732-F1EC-4EB6-871A-F556177B9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5442-AB7C-4CA7-A12A-54891E6EE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A248-590C-4873-8C95-1F9B61E0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2D18-42DF-4306-82C3-BD1B65CC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0CD8-3AAD-4F3B-98D8-6B19CC26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8834-F415-4498-BE00-A9B229D9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D2BD-C3D4-44E8-8B2C-2B368B91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44C8-6D3D-4DBF-928F-A4FE0543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BD50-3BEE-4662-9DFE-B94B4D9E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0922-5C1A-4AAC-8C9D-8F9C0262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C94C82-C474-4A93-B7F4-922393CFFBF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3" descr="pw_certificate_sample.jpg"/>
          <p:cNvPicPr/>
          <p:nvPr/>
        </p:nvPicPr>
        <p:blipFill>
          <a:blip r:embed="rId1"/>
          <a:stretch/>
        </p:blipFill>
        <p:spPr>
          <a:xfrm>
            <a:off x="158760" y="254160"/>
            <a:ext cx="5705640" cy="8656560"/>
          </a:xfrm>
          <a:prstGeom prst="rect">
            <a:avLst/>
          </a:prstGeom>
          <a:ln w="0">
            <a:noFill/>
          </a:ln>
        </p:spPr>
      </p:pic>
      <p:sp>
        <p:nvSpPr>
          <p:cNvPr id="42" name="正方形/長方形 1"/>
          <p:cNvSpPr/>
          <p:nvPr/>
        </p:nvSpPr>
        <p:spPr>
          <a:xfrm>
            <a:off x="5062680" y="254160"/>
            <a:ext cx="1582560" cy="523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見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図 4" descr="pw_certificate.jpg"/>
          <p:cNvPicPr/>
          <p:nvPr/>
        </p:nvPicPr>
        <p:blipFill>
          <a:blip r:embed="rId1"/>
          <a:stretch/>
        </p:blipFill>
        <p:spPr>
          <a:xfrm>
            <a:off x="158760" y="254160"/>
            <a:ext cx="5705640" cy="86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8T13:20:04Z</dcterms:created>
  <dc:creator>木村 陽一</dc:creator>
  <dc:description/>
  <dc:language>en-US</dc:language>
  <cp:lastModifiedBy>木村 陽一</cp:lastModifiedBy>
  <dcterms:modified xsi:type="dcterms:W3CDTF">2013-02-18T13:27:46Z</dcterms:modified>
  <cp:revision>2</cp:revision>
  <dc:subject/>
  <dc:title>PowerPoint プレゼンテーション</dc:title>
</cp:coreProperties>
</file>